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771-951E-4E2A-940C-5414A5DD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039-8979-44E8-BEBC-CD306DA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BA2-4A21-4CE7-BD52-C5C418CC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D83-3462-4690-B6E8-F220A5E9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A6E2-3657-4E1D-AA1E-12B5DC9A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39E2-CE03-40F1-A604-373FEA3B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C2CC-F7AC-478A-8247-AF7B479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FF2-D7DA-4830-9AB9-41566C4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BDAC-434E-4207-B0FB-DD691525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40FC-9007-44E5-BB7A-8DCFDD9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63B-E6FC-4EDB-A067-448968C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76A-C585-446E-9E28-07E929EC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3A9-A1AD-481B-B356-E27D47C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C1F2-C973-4725-9EAC-DC15B56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C885-F5AA-4A44-9942-8EB450DE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0FDA-1622-480C-BD10-45931526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4A37-B93E-43F7-A692-6E0120D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DE0-7939-48A4-AB9F-57BC60C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D1F-57F5-40EA-93C7-FE7309B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352-9089-49D7-B946-3422824E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442-3B4D-4BD8-8CFC-461E10D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A20-5606-477B-A8CB-4AE044B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430-D0E8-4445-98F4-587C8E9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92A-22A9-4550-A4DD-6C3C7816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201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51202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1203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1204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1205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51206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51207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51208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812C-FC5D-4337-8E03-EB28A20F002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Picture 1" descr="new transparent feb2021 "/>
          <p:cNvPicPr/>
          <p:nvPr/>
        </p:nvPicPr>
        <p:blipFill>
          <a:blip r:embed="rId2"/>
          <a:stretch/>
        </p:blipFill>
        <p:spPr>
          <a:xfrm>
            <a:off x="8172360" y="6093000"/>
            <a:ext cx="774720" cy="64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2225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52226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2227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2228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2229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2230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2231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2232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E046-0F4E-492F-8706-EC4D46C0F30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honics Trai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ikolas J.Cake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Overview and ai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Text Placeholder 11266" descr=""/>
          <p:cNvPicPr/>
          <p:nvPr/>
        </p:nvPicPr>
        <p:blipFill>
          <a:blip r:embed="rId1"/>
          <a:stretch/>
        </p:blipFill>
        <p:spPr>
          <a:xfrm>
            <a:off x="447840" y="1542960"/>
            <a:ext cx="82483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solidFill>
            <a:srgbClr val="5b5b89"/>
          </a:solidFill>
          <a:ln w="12600">
            <a:solidFill>
              <a:srgbClr val="41416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In the beginning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Text Placeholder 16386" descr=""/>
          <p:cNvPicPr/>
          <p:nvPr/>
        </p:nvPicPr>
        <p:blipFill>
          <a:blip r:embed="rId1"/>
          <a:stretch/>
        </p:blipFill>
        <p:spPr>
          <a:xfrm>
            <a:off x="447840" y="1258920"/>
            <a:ext cx="824832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Short vowe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s my nightmare.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         e               i           o           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         o               a           u          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          u               e          i       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at ees my name? My name ees Neeeek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:( :*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ames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U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 listening gam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run to the right card,hit the card teacher says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 the vowels as a tea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ar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ring the sound is very important and will help them later when they fully recognise the letter/sound.  Later when they can recognise you can add words to the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CvC</a:t>
            </a: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 vowel word</a:t>
            </a: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Text Placeholder 5529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6048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Final consonant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Text Placeholder 54274" descr=""/>
          <p:cNvPicPr/>
          <p:nvPr/>
        </p:nvPicPr>
        <p:blipFill>
          <a:blip r:embed="rId1"/>
          <a:stretch/>
        </p:blipFill>
        <p:spPr>
          <a:xfrm>
            <a:off x="457200" y="1217520"/>
            <a:ext cx="8229600" cy="545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5b5b8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Text Placeholder 19458" descr=""/>
          <p:cNvPicPr/>
          <p:nvPr/>
        </p:nvPicPr>
        <p:blipFill>
          <a:blip r:embed="rId1"/>
          <a:stretch/>
        </p:blipFill>
        <p:spPr>
          <a:xfrm>
            <a:off x="457200" y="140652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object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We don’t need the kids to be able to understand every word or know the meaning, we just want them to have confidence to try to read and pronou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the course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teach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should have a clearer understanding of how each letter sounds and how they can use them to say simple 2,3 or 4 letter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y the demo we want them to be able to identify and create the right combination of letters  to make the sounds suggested to them.. I say     “h-o-t” and they can find those letters and put them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Demo pl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s is how I would construct a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asic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onics de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(actually most phonics de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) Intros- My name is A-a-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 feel H-h-Hap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) Warm up- Alphabet board relay 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) 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4) Dr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) Team sort the sounds game(find vowel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6) Team words under sounds on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7) Team arrange the alphabet cards on floor in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8) Students in pairs come out and make words from sounds teacher s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30:00Z</dcterms:created>
  <dc:creator>微软中国</dc:creator>
  <dc:description/>
  <dc:language>en-US</dc:language>
  <cp:lastModifiedBy>firea</cp:lastModifiedBy>
  <dcterms:modified xsi:type="dcterms:W3CDTF">2021-02-24T14:09:35Z</dcterms:modified>
  <cp:revision>48</cp:revision>
  <dc:subject/>
  <dc:title>New Phonics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984</vt:lpwstr>
  </property>
</Properties>
</file>